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56C-3919-4886-9145-A5A0C666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86D0-F4F9-4AF0-A2CD-FB2642A2E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4684-F8EA-40CD-A716-0103967A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D15C-1D24-4935-8BBE-A47635A0E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9BE6-9F42-426E-8255-E41C0F0AD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971C-21A9-4C87-BD10-EF82B295E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1D56-2B38-42F0-B205-E8A5A20A8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D216-7747-4148-AAEB-C61054D88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9466-D1E1-47C0-A77B-E251D59EA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BB38-CB9A-4C85-AB28-DB4B1063A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FF93-0AA2-4D85-8C23-861294F98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2513-3FB8-4478-BABF-CAD0184D1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6A67-CDFB-442F-A43B-EFBF6EA99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151920"/>
            <a:ext cx="7696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" y="64004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A44-9CD0-4BE7-9600-108680B9AFD4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udy of Microbial Structure: Microscopy and Specimen Prepa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D977-A5A6-4461-97A4-0706608F2D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2.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40CE-2E73-4E32-B6AD-E36F0BE94570}" type="slidenum">
              <a:t>10</a:t>
            </a:fld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Microscope Resolu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ility of a lens to separate or distinguish small objects that are close togeth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length of light used is major factor in re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er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eat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DC99-92C6-4BF7-812E-73EC7E42C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27F7-3EB1-463A-B06C-5CD9BE769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2.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0494-71B0-479F-A49E-CC00F018095B}" type="slidenum">
              <a:t>13</a:t>
            </a:fld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2.6" descr="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62C8-A439-4933-98B1-64E32954C711}" type="slidenum">
              <a:t>14</a:t>
            </a:fld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ark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bright image of the object against a dark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to observe living, unstained prepar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D0AC-02B9-4458-8EAF-E856F52FF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2.7b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6C1A-8B32-47A5-B42D-581BBFB5926C}" type="slidenum">
              <a:t>16</a:t>
            </a:fld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Phase-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hances the contrast between intracellular structures having slight differences in refractive inde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833F-E9C5-44E0-ADDE-3E011102B0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fig2.9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72C3-BE4A-49B0-86F4-B13D229A34CB}" type="slidenum">
              <a:t>18</a:t>
            </a:fld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2.10" descr="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367C-A683-480A-A351-F2C78D13E45B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l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0102" descr=""/>
          <p:cNvPicPr/>
          <p:nvPr/>
        </p:nvPicPr>
        <p:blipFill>
          <a:blip r:embed="rId1"/>
          <a:stretch/>
        </p:blipFill>
        <p:spPr>
          <a:xfrm>
            <a:off x="2614680" y="-361800"/>
            <a:ext cx="3914640" cy="75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B819-538B-4BDF-A993-23BEA00150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ifferential Interference 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s image by detecting differences in refractive indices and thickness of different parts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A228-5C34-46FF-836D-12E62311EC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Fluorescence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oses specimen to ultraviolet, violet, or blue ligh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usually stained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uorochr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ws a bright image of the object resulting from the fluorescent light emitted by the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08C1-A260-4F32-9EB6-55D602F57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2.1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EB1F-2D33-4F82-A7B4-F4885EC676F5}" type="slidenum">
              <a:t>22</a:t>
            </a:fld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ig2.13cd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8814-8986-4E2F-8B39-2102AB8BCC47}" type="slidenum">
              <a:t>23</a:t>
            </a:fld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eparation and Staining of Specimen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s visibility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ntuates specific morphological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rves specime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1AC5-1736-4702-A555-352771DD6D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ixation 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internal and external structures are preserved and fixed in pos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organism is killed and firmly attached to microscop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rves overall morphology but not internal struct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s fine cellular substructure and morphology of larger, more delicate organis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D5AA-25CD-4412-9EB8-F5ACBEFB45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y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e internal and external structures of cell more visible by increasing contrast with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two common featur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mophore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groups with conjugated double bon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dye its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lity to bind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7165-6BEE-42C7-88AF-C338E38DC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mpl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ngle staining agent is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dy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re frequently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yes with positive char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crystal vio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9B9C-B08F-4554-BE8A-89839E15B1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fferential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microorganisms into groups based on their staining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Gram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acid-fast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FF68-2195-431E-87AB-217EEEE7E6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Gram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st widely used differential staining proced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Bacteria into two groups based on differences in cell wal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3ED2-9163-4ED9-AC40-E9E98AFBE9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scovery of Microorganism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ony van Leeuwenhoek (1632-1723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person to observe and describe micro-organisms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fig1.1" descr=""/>
          <p:cNvPicPr/>
          <p:nvPr/>
        </p:nvPicPr>
        <p:blipFill>
          <a:blip r:embed="rId1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748A-ABE3-4268-9C9B-C6530EFF1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ig2.14" descr="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7643-DEE6-46ED-B345-662F9C42CC19}" type="slidenum">
              <a:t>30</a:t>
            </a:fld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ig2.15c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1CA0-B2C7-4862-AF4E-E141FF8003F9}" type="slidenum">
              <a:t>31</a:t>
            </a:fld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cid-fast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ularly useful for staining members of the genu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cobacteriu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tubercul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tubercul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lepra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lepros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lipid content in cell walls is responsible for their staining 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EF5C-1A0D-4DD1-920A-8C1945035F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gativ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used to visualize capsules surrounding bacteri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sules are colorless against a stained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1787-284A-4567-BAD0-7C00471F72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or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uble staining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endospore is one color and vegetative cell is a different col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agella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dant applied to increase thickness of flagell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A741-1C90-4BB8-84C2-3454BF107B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lectro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ms of electrons are used to produce imag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velength of electron beam is much shorter than light, resulting in much high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fig2.20b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56880" y="600876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B44F-03FA-4F52-B0E1-BC1B79BBA4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Transmission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rons scatter when they pass through thin sections of a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mitted electrons (those that do not scatter) are used to produc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ser regions in specimen, scatter more electrons and appear dar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933A-08CB-4515-B6D2-8B485593FE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ig2.23b" descr=""/>
          <p:cNvPicPr/>
          <p:nvPr/>
        </p:nvPicPr>
        <p:blipFill>
          <a:blip r:embed="rId1"/>
          <a:stretch/>
        </p:blipFill>
        <p:spPr>
          <a:xfrm>
            <a:off x="2962440" y="457200"/>
            <a:ext cx="5181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M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7B75-33CC-4FF4-968E-6B2239655D10}" type="slidenum">
              <a:t>37</a:t>
            </a:fld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pecimen Prepara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ogous to procedures used for light microscop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transmission electron microscopy, specimens must be cut very th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are chemically fixed and stained with electron dense materi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C9EF-6066-44B6-A096-9E1831E8E7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ther preparation method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dow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ating specimen with a thin film of a heavy me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ze-etch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ze specimen then fracture along lines of greatest weakness (e.g., membra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FD01-2AEC-4892-B9AF-4DEBE57064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 and the Bending of Ligh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 is refracted (bent) when passing from one medium to anoth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ractive ind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asure of how greatly a substance slows the velocity of ligh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ion and magnitude of bending is determined by the refractive indexes of the two media forming the interfa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48FD-FE00-4C20-A61E-F28C2D788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2.25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60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7400" y="607068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91AC-312E-45A6-8508-AF8DE63BE8D4}" type="slidenum">
              <a:t>40</a:t>
            </a:fld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-x05-ebolavirus" descr=""/>
          <p:cNvPicPr/>
          <p:nvPr/>
        </p:nvPicPr>
        <p:blipFill>
          <a:blip r:embed="rId1"/>
          <a:stretch/>
        </p:blipFill>
        <p:spPr>
          <a:xfrm>
            <a:off x="127080" y="507960"/>
            <a:ext cx="8889840" cy="5842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77A4-E86A-4341-AE15-E124E59842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1-13b-mutantfruitfly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ly head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237A-DAB6-4F24-B6AF-EAF5649F82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Scanning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electrons reflected from the surface of a specimen to creat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3-dimensional image of specimen’s surface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2336-EC9E-43F8-90C2-15859494D0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ig2.27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0E62-DF51-4505-B390-690075DDDFD3}" type="slidenum">
              <a:t>44</a:t>
            </a:fld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Newer Techniques i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ocal microscop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canning probe microscop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extremely high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used to observe individual ato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fig2.20b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09160" y="5932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1E05-66E8-49DB-BF03-B8C6310DF2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onfocal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ocal scanning laser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ser beam used to illuminate spots on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uter compiles images created from each point to generate a 3-dimensional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229C-894A-4029-8CE8-9B9798DAE8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ig2.2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5943600"/>
            <a:ext cx="167652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E612-2C5D-4225-A542-4B80D5DB810B}" type="slidenum">
              <a:t>47</a:t>
            </a:fld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g2.30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95CF-E6CD-4139-8400-D53DCA07F83F}" type="slidenum">
              <a:t>48</a:t>
            </a:fld>
          </a:p>
        </p:txBody>
      </p:sp>
    </p:spTree>
  </p:cSld>
  <p:transition spd="slow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nning tunneling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dy current (tunneling current) maintained between microscope probe and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urrent is detected and used to create image of surface of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EC14-C49D-4D34-B9FB-2550623E9E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light rays at a specific place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tance between center of lens and focal point i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ength of lens related to 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focal 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magn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433C-75F3-4BEA-8D35-F2C9C0A01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tomic force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p probe moves over surface of specimen at constant distan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onstant distance is detected and used to create im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9CD9-FA80-4F76-A5B2-AA87F85655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g2.2" descr=""/>
          <p:cNvPicPr/>
          <p:nvPr/>
        </p:nvPicPr>
        <p:blipFill>
          <a:blip r:embed="rId1"/>
          <a:stretch/>
        </p:blipFill>
        <p:spPr>
          <a:xfrm>
            <a:off x="1447920" y="5572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764C-9410-45B3-ADDF-7651E3F6F048}" type="slidenum">
              <a:t>6</a:t>
            </a:fld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Ligh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k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-contrast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escence microsco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compound microsco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formed by action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len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08E7-2F68-4F1F-9A49-80FDA093C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Bright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dark image against a brighter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several objective len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fo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icroscopes remain in focus when objectives are chang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magn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of the magnifications of the ocular lens and the objective le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94AA-589C-4936-B168-7F6C71D456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2.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26560" cy="549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0437-74B8-42C7-9421-2E3D22BC85DD}" type="slidenum">
              <a:t>9</a:t>
            </a:fld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Mark S. Davis</cp:lastModifiedBy>
  <dcterms:modified xsi:type="dcterms:W3CDTF">2003-09-04T16:03:31Z</dcterms:modified>
  <cp:revision>15</cp:revision>
  <dc:subject/>
  <dc:title>PowerPoint Presentation  -  Chapter 2</dc:title>
</cp:coreProperties>
</file>